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-презентация  по теме "Частицы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DE2C-F515-4A71-A7AE-9A5E51C3F3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Верхний колонтитул 3"/>
          <p:cNvSpPr/>
          <p:nvPr/>
        </p:nvSpPr>
        <p:spPr>
          <a:xfrm>
            <a:off x="0" y="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-презентация  по теме "Частицы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CE35-EE28-495B-875A-1DCD2293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DEB-ADA3-4146-A055-9F20FE46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B92-04C5-4C81-AD23-8E076245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51B-40D5-4325-9F35-D96DBE6F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8730-1F08-489F-AB70-1DD6DAD2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94E3-98E9-4005-94D5-FC9B3B14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31F4-DB11-4FDA-9EA9-FDE2B376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7D83-D018-4F3C-8AA7-C90FB3CD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4DCE-62E7-4528-BC89-81C50BC9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DBF4-5D88-4A2E-9019-0118D286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DA60-F66B-4677-BFE1-8E9CAFA7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C6E-2C12-47C4-B65F-C91E862C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32E8-3D3C-4774-8D31-6489817B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C14F-D49A-46C7-B247-4CBE0F14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D1D3-6C31-441F-A9CE-6FDFD245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CD20-6DB1-4953-93E4-BD110F93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E736-2302-4718-9D49-445242F6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414-DFD9-459B-AF14-B56FF76B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62C-7B49-4DC8-9D7D-05A5A31C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E14-E248-421E-9666-58888A75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9E2-21BA-4BD4-A140-41605F42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59F4-4245-4E47-9297-767E85F0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C6E-B213-45F9-BF33-FD0D3F2D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70BE-432F-45EF-8746-0A688602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39B3-1A0E-4D54-8479-8FF730F5DB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BA33-FB44-46B3-838D-4407282E3B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25480" y="312480"/>
            <a:ext cx="67550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42560" y="549360"/>
            <a:ext cx="7705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 Narrow"/>
                <a:ea typeface="Arial"/>
              </a:rPr>
              <a:t>ЧАСТИЦ</a:t>
            </a:r>
            <a:r>
              <a:rPr b="1" i="1" lang="en-US" sz="5000" spc="-1" strike="noStrike">
                <a:solidFill>
                  <a:srgbClr val="ffff00"/>
                </a:solidFill>
                <a:latin typeface="Arial"/>
                <a:ea typeface="Arial"/>
              </a:rPr>
              <a:t>Ы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00040" y="492912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втор работы -  ученики 7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Что такое частица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азряды частиц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авописание частиц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потребление и разграничение на письме частиц НЕ и Н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ЧАСТИЦА КАК ЧАСТЬ РЕЧ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Частица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– служебная часть речи, которая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вносит различные оттенки значения в предложение или служит для образования форм слов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08720" y="3500280"/>
            <a:ext cx="3190680" cy="314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азряды частиц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99cccc"/>
                </a:solidFill>
                <a:latin typeface="Verdana"/>
              </a:rPr>
              <a:t>Формообразующие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словное наклонение: бы, б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велительное наклонение: пусть, пускай, да, давай, давайт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cccc"/>
                </a:solidFill>
                <a:latin typeface="Arial"/>
              </a:rPr>
              <a:t>Смысловые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трицательные: не, ни, вовсе не, далеко не, отнюдь н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указательные: вон, вот, эт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ыделительные: только, лишь, почти-то, единственно, исключительн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уточняющие: именно, как раз, прямо, точь-в-точь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усилительные: даже, же, ни, даже и, ведь, уж, всё, всё-таки, ещё, н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опросительные: неужели, разве, ли, что, что л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осклицательные: что за, куда как, как, ну 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омнение: едва ли, вряд ли, авось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авописание частиц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аздельное написание частиц: частицы БЫ, ЛИ, ЖЕ со всеми словами пишутся раздельно. </a:t>
            </a:r>
            <a:r>
              <a:rPr b="0" i="1" lang="ru-RU" sz="2500" spc="-1" strike="noStrike">
                <a:solidFill>
                  <a:srgbClr val="33cccc"/>
                </a:solidFill>
                <a:latin typeface="Verdana"/>
              </a:rPr>
              <a:t>Узнал бы, найду ли, однако ж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ефисное написание частиц: частицы –то и –ка ко всем словам на письме присоединяются с помощью дефиса.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33cccc"/>
                </a:solidFill>
                <a:latin typeface="Verdana"/>
              </a:rPr>
              <a:t>Дом-то построили, пойдёмте-ка домо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астица –таки присоединяется дефисом к глаголам и наречиям. </a:t>
            </a:r>
            <a:r>
              <a:rPr b="0" i="1" lang="ru-RU" sz="2500" spc="-1" strike="noStrike">
                <a:solidFill>
                  <a:srgbClr val="33cccc"/>
                </a:solidFill>
                <a:latin typeface="Verdana"/>
              </a:rPr>
              <a:t>Наконец-таки приехал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Употребление и разграничение на письме частиц НЕ и НИ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cccc"/>
                </a:solidFill>
                <a:latin typeface="Verdana"/>
              </a:rPr>
              <a:t>Частица Не употребляется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ля отрицания смысла того слова, которое стоит после неё: </a:t>
            </a:r>
            <a:r>
              <a:rPr b="0" i="1" lang="en-US" sz="2100" spc="-1" strike="noStrike">
                <a:solidFill>
                  <a:srgbClr val="33cccc"/>
                </a:solidFill>
                <a:latin typeface="Verdana"/>
              </a:rPr>
              <a:t>Ты мне НЕ друг. НЕ ты мне друг. Ты НЕ друг мн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 двойном отрицании предложение получает утвердительный смысл: </a:t>
            </a:r>
            <a:r>
              <a:rPr b="0" i="1" lang="en-US" sz="2100" spc="-1" strike="noStrike">
                <a:solidFill>
                  <a:srgbClr val="33cccc"/>
                </a:solidFill>
                <a:latin typeface="Verdana"/>
              </a:rPr>
              <a:t>НЕ могу НЕ согласиться с вам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остые вопросительно- восклицательные предложения с частицей НЕ получают утвердительный смысл: </a:t>
            </a:r>
            <a:r>
              <a:rPr b="0" i="1" lang="en-US" sz="2100" spc="-1" strike="noStrike">
                <a:solidFill>
                  <a:srgbClr val="33cccc"/>
                </a:solidFill>
                <a:latin typeface="Verdana"/>
              </a:rPr>
              <a:t>Кому НЕ известны строчки М.Ю.Лермонтова о Москве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частица НЕ может входить в состав сочетаний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едва не, едва ли не, чуть не, чуть ли не, пока не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Брат считался едва ли не лучшим кавалеристо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Частица НИ употребляется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ля усиления отрицания, которое уже есть в предложении и выражено частицей НЕ, стоящей перед сказуемым, или словом НЕТ: </a:t>
            </a:r>
            <a:r>
              <a:rPr b="0" i="1" lang="en-US" sz="2100" spc="-1" strike="noStrike">
                <a:solidFill>
                  <a:srgbClr val="33cccc"/>
                </a:solidFill>
                <a:latin typeface="Verdana"/>
              </a:rPr>
              <a:t>На улице не было НИ души. На улице НЕТ НИ душ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ля усиления утверждения, когда НИ употребляется в придаточной части сложноподчинённого предложения с уступительным оттенком значения: </a:t>
            </a:r>
            <a:r>
              <a:rPr b="0" i="1" lang="en-US" sz="2100" spc="-1" strike="noStrike">
                <a:solidFill>
                  <a:srgbClr val="33cccc"/>
                </a:solidFill>
                <a:latin typeface="Verdana"/>
              </a:rPr>
              <a:t>О чем бы человек НИ рассказывал, он рассказывает о самом себ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частица НИ входит в состав устойчивых сочетаний для обозначения неопределённости высказывания: </a:t>
            </a:r>
            <a:r>
              <a:rPr b="0" i="1" lang="en-US" sz="2100" spc="-1" strike="noStrike">
                <a:solidFill>
                  <a:srgbClr val="33cccc"/>
                </a:solidFill>
                <a:latin typeface="Verdana"/>
              </a:rPr>
              <a:t>НИ рыба  НИ мясо; НИ свет  НИ зар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71400" y="360000"/>
            <a:ext cx="7103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0119f"/>
                </a:solidFill>
                <a:latin typeface="Arial Narrow"/>
                <a:ea typeface="Arial"/>
              </a:rPr>
              <a:t>Различай сочета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3357720"/>
            <a:ext cx="8280360" cy="27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604a7b"/>
                </a:solidFill>
                <a:latin typeface="Arial Narrow"/>
                <a:ea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324000" y="907920"/>
            <a:ext cx="396072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1680" indent="-3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 Narrow"/>
                <a:ea typeface="Arial"/>
              </a:rPr>
              <a:t>Не что иное, как…</a:t>
            </a:r>
            <a:br>
              <a:rPr sz="2000"/>
            </a:br>
            <a:r>
              <a:rPr b="1" i="1" lang="en-US" sz="2000" spc="-1" strike="noStrike">
                <a:solidFill>
                  <a:srgbClr val="ff3300"/>
                </a:solidFill>
                <a:latin typeface="Arial Narrow"/>
                <a:ea typeface="Arial"/>
              </a:rPr>
              <a:t>Не кто иной, как…</a:t>
            </a:r>
            <a:br>
              <a:rPr sz="2000"/>
            </a:br>
            <a:r>
              <a:rPr b="1" i="1" lang="en-US" sz="2000" spc="-1" strike="noStrike">
                <a:solidFill>
                  <a:srgbClr val="40119f"/>
                </a:solidFill>
                <a:latin typeface="Arial Narrow"/>
                <a:ea typeface="Arial"/>
              </a:rPr>
              <a:t>Пишутся, если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1) сказуемое утвердительное (в утвердительном предложении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2) возможна перестановка частицы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3) есть союз как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4) возможна замена сочетания частицами только, именно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5) сочетания не являются членами предложения.</a:t>
            </a:r>
            <a:br>
              <a:rPr sz="2000"/>
            </a:br>
            <a:r>
              <a:rPr b="1" i="1" lang="en-US" sz="2000" spc="-1" strike="noStrike">
                <a:solidFill>
                  <a:srgbClr val="40119f"/>
                </a:solidFill>
                <a:latin typeface="Arial Narrow"/>
                <a:ea typeface="Arial"/>
              </a:rPr>
              <a:t>Это было не что иное, как след лис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1"/>
          <p:cNvSpPr/>
          <p:nvPr/>
        </p:nvSpPr>
        <p:spPr>
          <a:xfrm>
            <a:off x="4716360" y="1052640"/>
            <a:ext cx="403236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 Narrow"/>
                <a:ea typeface="Arial"/>
              </a:rPr>
              <a:t>Ничто иное не…</a:t>
            </a:r>
            <a:br>
              <a:rPr sz="2000"/>
            </a:br>
            <a:r>
              <a:rPr b="1" i="1" lang="en-US" sz="2000" spc="-1" strike="noStrike">
                <a:solidFill>
                  <a:srgbClr val="ff3300"/>
                </a:solidFill>
                <a:latin typeface="Arial Narrow"/>
                <a:ea typeface="Arial"/>
              </a:rPr>
              <a:t>Никто иной не…</a:t>
            </a:r>
            <a:br>
              <a:rPr sz="2000"/>
            </a:br>
            <a:r>
              <a:rPr b="1" i="1" lang="en-US" sz="2000" spc="-1" strike="noStrike">
                <a:solidFill>
                  <a:srgbClr val="40119f"/>
                </a:solidFill>
                <a:latin typeface="Arial Narrow"/>
                <a:ea typeface="Arial"/>
              </a:rPr>
              <a:t>Пишутся, если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1) сказуемое отрицательно (в отрицательном предложении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2) перестановка частицы невозможна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3) нет союза как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4) замена сочетания частицами только, именно невозможна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5) сочетания являются членами предложения.</a:t>
            </a:r>
            <a:br>
              <a:rPr sz="2000"/>
            </a:br>
            <a:r>
              <a:rPr b="1" i="1" lang="en-US" sz="2000" spc="-1" strike="noStrike">
                <a:solidFill>
                  <a:srgbClr val="40119f"/>
                </a:solidFill>
                <a:latin typeface="Arial Narrow"/>
                <a:ea typeface="Arial"/>
              </a:rPr>
              <a:t>Никто иной не поможет в беде, кроме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7:01:46Z</dcterms:created>
  <dc:creator>женя</dc:creator>
  <dc:description/>
  <dc:language>en-US</dc:language>
  <cp:lastModifiedBy>студент</cp:lastModifiedBy>
  <dcterms:modified xsi:type="dcterms:W3CDTF">2010-04-30T11:10:45Z</dcterms:modified>
  <cp:revision>72</cp:revision>
  <dc:subject/>
  <dc:title>РАДУГА</dc:title>
</cp:coreProperties>
</file>